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460-C3C7-49C0-AC3B-20AA5411A2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AC1C-C1D4-4120-B45A-97734541C13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EB70-61AD-44AD-8204-715117DF74D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65B-08E6-4257-8B2D-0365C4D832B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C46-D5B9-4EBC-96CF-99FBB0796B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Boardworks GCSE Science: Biolo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Genes and Genetic Engine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3E5-18DA-44D7-AAF0-2CCB4D75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7B6-B653-4C71-84EA-B4CC329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D00-DDEA-4696-9ABF-8E3314E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587-3957-4F68-9087-C727CF87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0E79-E340-460B-A109-C794DFA5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5B1-9D1D-4EAD-9658-B82A075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36F-4BF1-49BA-B9E3-752F7EA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3255-7546-4831-A0A3-A798FAC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9FF1-BE7A-4C99-BC80-915053B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41E-56D5-49D0-BCBF-5A4CB2D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4B34-F1C6-4947-8E5D-D3ACE0F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F93-15A4-4576-BC08-8C201256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C1D0-A09A-441D-9C99-EBD40927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FDBC-6724-4930-9B5A-15F842C9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93D-C42F-43CB-8480-5C82CDAC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FDAC-658D-479A-9A29-68F7E471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8781-4F44-41DB-AF88-9421AC51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C954-173D-41FF-BC23-7A5A71E5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DE43-DCE8-4ECB-8E99-B0E55E36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07DA-0D8D-43F9-82C9-1AED8A8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9FE4-FC9E-4AB5-9A58-937C22A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E1E4-40D5-4184-8507-56A8B79F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806-758B-4678-8FAC-2EB61AC1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EC70-1BEF-498D-AF13-1C71923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27EC-FEED-491E-A7F2-C9340642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6705-C539-4B5D-9970-635DB37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55F9-D7AC-4572-B3CF-08D8A12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5925-129A-4E70-94F6-D2AA779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C25E-9787-428A-AECB-1FB6E5EC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A0B8-FB3F-4CAF-9A6D-AECE6121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1E2A-3ED2-4BB5-8357-A14B2806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D38E-DF40-42B7-AE85-12D8445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DB8E-0E37-433A-95DE-B45376A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886-88B5-4895-9633-04FACCC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AF19-E52F-47D6-AED9-7D9AE61E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08A1-6F05-45A1-888F-A6A08BDF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9A7A-C837-4C77-B1A2-5A6A527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1B2D-FE35-4795-88E7-A7132FD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1D06-E96B-4569-81E8-A363991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4E46-1B51-4474-B6CE-4E666A8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7BAC-7B55-42D2-927E-CF970985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DEF9-0084-46A4-B066-BC0C368B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47BB-7F83-4268-A731-843239E4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7E43-F9E9-4FAC-A241-E202AA5C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719-5C07-4D16-8596-973564A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BF0E-7EE2-44CB-9E7E-CE7965B9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EED8-A6B5-42D1-979A-C90C70C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E2D1-75D3-4DAC-9F0B-B0C4790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666B5-8B1C-4F3A-8DAB-C0E9FD16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C21D-0018-4CB8-85A9-BAAD341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0C1CB-D967-4244-8E04-F3BD5DB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E4D6-4D20-47D9-8720-5159A25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7BB2-27C3-4DE1-A9EC-D25B7D3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67A0-B0E3-463D-A96F-5957E17E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36B67-C94A-4398-A9FE-7A12D06D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158-E4ED-4E9B-9B42-90B16CE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422D-6E5E-4478-A8B5-55FE63D7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29272-39B2-4BA7-BD98-C94F772B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C3E3-92AA-4A5C-A24A-846CD3C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1ABC-461B-4B95-A8AF-4630C083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75EB-B41E-4FD2-88C3-8B56056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399D-346B-4CC1-92E8-4FC7931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E252-405E-44B4-842F-4941C589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C6FC-7ADB-4399-9293-77B4E95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A2335-6D8B-417D-9222-91EACB5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E3B9A-C0A5-48F2-B73E-A4B3B9B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185-04B5-4F81-9512-1355E83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1D8CD-6549-4F20-B1B4-47DC426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ACF9E-97AE-4332-B55F-6BB6F8F7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B9F0-67F9-4577-883E-51769423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8DB-A11D-496B-9DF1-ECDE792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290-F279-4FCD-94C8-10A3AEE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DD3-ADD1-4A51-B9BC-00E5CA002129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90C4-0505-4CB2-A339-DD26E262A1FB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B0D-D01F-4E65-86B9-596577754BD0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79AE-9052-45D3-A80D-0869256CE896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E938-965D-49E8-8DEF-F750A1ED335B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6b6b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230A-50EF-484B-8D48-D97457BF43E2}" type="slidenum">
              <a:rPr b="0" lang="en-GB" sz="1000" spc="-1" strike="noStrike">
                <a:solidFill>
                  <a:srgbClr val="b6b6b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Comic Sans MS"/>
              </a:rPr>
              <a:t>What do you think makes this baby human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13" descr="Thomas"/>
          <p:cNvPicPr/>
          <p:nvPr/>
        </p:nvPicPr>
        <p:blipFill>
          <a:blip r:embed="rId1"/>
          <a:stretch/>
        </p:blipFill>
        <p:spPr>
          <a:xfrm>
            <a:off x="1139760" y="1785960"/>
            <a:ext cx="7004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Cartoon Fu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Picture 10" descr=""/>
          <p:cNvPicPr/>
          <p:nvPr/>
        </p:nvPicPr>
        <p:blipFill>
          <a:blip r:embed="rId1"/>
          <a:srcRect l="1555" t="0" r="3660" b="1728"/>
          <a:stretch/>
        </p:blipFill>
        <p:spPr>
          <a:xfrm rot="5400000">
            <a:off x="66240" y="1861920"/>
            <a:ext cx="4357440" cy="40626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 rot="5400000">
            <a:off x="4670640" y="2544120"/>
            <a:ext cx="6181560" cy="1950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"/>
          <p:cNvPicPr/>
          <p:nvPr/>
        </p:nvPicPr>
        <p:blipFill>
          <a:blip r:embed="rId3"/>
          <a:srcRect l="0" t="66768" r="7004" b="4335"/>
          <a:stretch/>
        </p:blipFill>
        <p:spPr>
          <a:xfrm rot="5400000">
            <a:off x="1571040" y="385740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4"/>
          <a:srcRect l="0" t="4624" r="7004" b="72258"/>
          <a:stretch/>
        </p:blipFill>
        <p:spPr>
          <a:xfrm rot="5400000">
            <a:off x="142200" y="2854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5"/>
          <a:srcRect l="0" t="37863" r="7004" b="41909"/>
          <a:stretch/>
        </p:blipFill>
        <p:spPr>
          <a:xfrm rot="5400000">
            <a:off x="1643040" y="356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6"/>
          <a:srcRect l="8187" t="70217" r="31681" b="3476"/>
          <a:stretch/>
        </p:blipFill>
        <p:spPr>
          <a:xfrm rot="7072200">
            <a:off x="1462320" y="4746960"/>
            <a:ext cx="703080" cy="131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7"/>
          <a:srcRect l="6111" t="2870" r="26549" b="64154"/>
          <a:stretch/>
        </p:blipFill>
        <p:spPr>
          <a:xfrm rot="5400000">
            <a:off x="5071680" y="785160"/>
            <a:ext cx="785880" cy="1643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8"/>
          <a:srcRect l="0" t="37288" r="8158" b="32606"/>
          <a:stretch/>
        </p:blipFill>
        <p:spPr>
          <a:xfrm rot="5400000">
            <a:off x="5000400" y="2142720"/>
            <a:ext cx="10717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re are chromosomes f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In the nucle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In the cyt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In the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"/>
          <p:cNvSpPr/>
          <p:nvPr/>
        </p:nvSpPr>
        <p:spPr>
          <a:xfrm>
            <a:off x="1000080" y="2428920"/>
            <a:ext cx="33577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5-Point Star 6"/>
          <p:cNvSpPr/>
          <p:nvPr/>
        </p:nvSpPr>
        <p:spPr>
          <a:xfrm>
            <a:off x="5357880" y="1785960"/>
            <a:ext cx="3643200" cy="321480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7143840" y="47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9813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art of DNA that carries the code for a particular characteristic is called a: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642960" y="3857760"/>
            <a:ext cx="22147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5-Point Star 6"/>
          <p:cNvSpPr/>
          <p:nvPr/>
        </p:nvSpPr>
        <p:spPr>
          <a:xfrm>
            <a:off x="3429000" y="3214800"/>
            <a:ext cx="3643200" cy="321444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67150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981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Re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480" y="1928520"/>
            <a:ext cx="86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NA stands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cleic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cleic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k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)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n’t k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w the </a:t>
            </a:r>
            <a:r>
              <a:rPr b="0" lang="en-GB" sz="28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785880" y="2428920"/>
            <a:ext cx="4929120" cy="5713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5-Point Star 6"/>
          <p:cNvSpPr/>
          <p:nvPr/>
        </p:nvSpPr>
        <p:spPr>
          <a:xfrm>
            <a:off x="5000760" y="3000240"/>
            <a:ext cx="3643200" cy="3214800"/>
          </a:xfrm>
          <a:prstGeom prst="pie">
            <a:avLst/>
          </a:prstGeom>
          <a:solidFill>
            <a:srgbClr val="00b0f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f2389"/>
                </a:solidFill>
                <a:latin typeface="Comic Sans MS"/>
              </a:rPr>
              <a:t>Well D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Sound-Effects - Crowd Cheer And Applause.mp3" descr=""/>
          <p:cNvPicPr/>
          <p:nvPr/>
        </p:nvPicPr>
        <p:blipFill>
          <a:blip r:embed="rId1"/>
          <a:stretch/>
        </p:blipFill>
        <p:spPr>
          <a:xfrm>
            <a:off x="8072280" y="5286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39813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E-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1" name="Picture 1" descr=""/>
          <p:cNvPicPr/>
          <p:nvPr/>
        </p:nvPicPr>
        <p:blipFill>
          <a:blip r:embed="rId1"/>
          <a:srcRect l="36719" t="26390" r="35547" b="36808"/>
          <a:stretch/>
        </p:blipFill>
        <p:spPr>
          <a:xfrm>
            <a:off x="0" y="85716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362" name="Oval 3"/>
          <p:cNvSpPr/>
          <p:nvPr/>
        </p:nvSpPr>
        <p:spPr>
          <a:xfrm>
            <a:off x="3929040" y="3000240"/>
            <a:ext cx="135720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929040" y="2643120"/>
            <a:ext cx="135720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3857760" y="2214720"/>
            <a:ext cx="15001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4200" y="267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C-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Nobody in the whole world has the same DNA as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Can you </a:t>
            </a:r>
            <a:r>
              <a:rPr b="0" lang="en-GB" sz="3000" spc="-1" strike="noStrike">
                <a:solidFill>
                  <a:srgbClr val="ef2389"/>
                </a:solidFill>
                <a:latin typeface="Comic Sans MS"/>
              </a:rPr>
              <a:t>describe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 what DNA 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0" descr="DNA"/>
          <p:cNvPicPr/>
          <p:nvPr/>
        </p:nvPicPr>
        <p:blipFill>
          <a:blip r:embed="rId1"/>
          <a:stretch/>
        </p:blipFill>
        <p:spPr>
          <a:xfrm>
            <a:off x="4410000" y="3857760"/>
            <a:ext cx="4734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927000" y="2577960"/>
            <a:ext cx="7716960" cy="1603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00080" y="3857400"/>
            <a:ext cx="7500960" cy="680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To further our knowledg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6929280" y="0"/>
            <a:ext cx="221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4A2-7661-42B5-BD14-AF819DED83BF}" type="datetime3">
              <a:rPr b="0" lang="en-US" sz="2400" spc="-1" strike="noStrike" u="sng">
                <a:solidFill>
                  <a:srgbClr val="ef2389"/>
                </a:solidFill>
                <a:uFillTx/>
                <a:latin typeface="Comic Sans MS"/>
              </a:rPr>
              <a:t>July 29,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0" y="0"/>
            <a:ext cx="2214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f2389"/>
                </a:solidFill>
                <a:uFillTx/>
                <a:latin typeface="Comic Sans MS"/>
              </a:rPr>
              <a:t>Clas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857160" y="1571760"/>
            <a:ext cx="7715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Title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- D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E-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rcRect l="36719" t="26390" r="35547" b="36808"/>
          <a:stretch/>
        </p:blipFill>
        <p:spPr>
          <a:xfrm>
            <a:off x="0" y="85716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267840"/>
            <a:ext cx="8715600" cy="139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Learning Outcomes – Grade C-D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Nobody in the whole world has the same DNA as you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Can you </a:t>
            </a:r>
            <a:r>
              <a:rPr b="0" lang="en-GB" sz="3000" spc="-1" strike="noStrike">
                <a:solidFill>
                  <a:srgbClr val="ef2389"/>
                </a:solidFill>
                <a:latin typeface="Comic Sans MS"/>
              </a:rPr>
              <a:t>describe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 what DNA 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0" descr="DNA"/>
          <p:cNvPicPr/>
          <p:nvPr/>
        </p:nvPicPr>
        <p:blipFill>
          <a:blip r:embed="rId1"/>
          <a:stretch/>
        </p:blipFill>
        <p:spPr>
          <a:xfrm>
            <a:off x="4410000" y="3857760"/>
            <a:ext cx="4734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5"/>
          <p:cNvSpPr/>
          <p:nvPr/>
        </p:nvSpPr>
        <p:spPr>
          <a:xfrm>
            <a:off x="2000160" y="2143080"/>
            <a:ext cx="47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umans have human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928880" y="114300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rganisms differ because they have different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gen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7120" y="70920"/>
            <a:ext cx="861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 u="sng">
                <a:solidFill>
                  <a:srgbClr val="ffffff"/>
                </a:solidFill>
                <a:uFillTx/>
                <a:latin typeface="Comic Sans MS"/>
              </a:rPr>
              <a:t>What makes organisms different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Picture 11" descr="gerbil_jeans"/>
          <p:cNvPicPr/>
          <p:nvPr/>
        </p:nvPicPr>
        <p:blipFill>
          <a:blip r:embed="rId1"/>
          <a:stretch/>
        </p:blipFill>
        <p:spPr>
          <a:xfrm>
            <a:off x="2071800" y="2857680"/>
            <a:ext cx="1746000" cy="2304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banana_jeans"/>
          <p:cNvPicPr/>
          <p:nvPr/>
        </p:nvPicPr>
        <p:blipFill>
          <a:blip r:embed="rId2"/>
          <a:stretch/>
        </p:blipFill>
        <p:spPr>
          <a:xfrm>
            <a:off x="3857760" y="428616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human_jeans"/>
          <p:cNvPicPr/>
          <p:nvPr/>
        </p:nvPicPr>
        <p:blipFill>
          <a:blip r:embed="rId3"/>
          <a:stretch/>
        </p:blipFill>
        <p:spPr>
          <a:xfrm>
            <a:off x="372960" y="1320840"/>
            <a:ext cx="1648080" cy="22543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4"/>
          <p:cNvSpPr/>
          <p:nvPr/>
        </p:nvSpPr>
        <p:spPr>
          <a:xfrm>
            <a:off x="3745080" y="3592440"/>
            <a:ext cx="42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rbils have gerbil g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745240" y="488484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10bc4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nanas have (yes, you’ve guessed it) banana ge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0" y="528804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body else in the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whole worl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has the same DNA as yo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552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Genetic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143240"/>
            <a:ext cx="850104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cleus of living cells contain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chromosom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hich are made up of a string of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gen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fferent genes control the development of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different characteristic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by issuing instructions to th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chromosome, showing gene as section of DNA"/>
          <p:cNvPicPr/>
          <p:nvPr/>
        </p:nvPicPr>
        <p:blipFill>
          <a:blip r:embed="rId1"/>
          <a:stretch/>
        </p:blipFill>
        <p:spPr>
          <a:xfrm>
            <a:off x="1212840" y="1285920"/>
            <a:ext cx="6913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" descr="DNA"/>
          <p:cNvPicPr/>
          <p:nvPr/>
        </p:nvPicPr>
        <p:blipFill>
          <a:blip r:embed="rId1"/>
          <a:stretch/>
        </p:blipFill>
        <p:spPr>
          <a:xfrm>
            <a:off x="1000080" y="1571760"/>
            <a:ext cx="4734000" cy="3733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42920" y="10000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romosomes and their genes are made of a molecule called </a:t>
            </a:r>
            <a:r>
              <a:rPr b="1" lang="en-GB" sz="2400" spc="-1" strike="noStrike">
                <a:solidFill>
                  <a:srgbClr val="10bc45"/>
                </a:solidFill>
                <a:latin typeface="Comic Sans MS"/>
              </a:rPr>
              <a:t>DN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14200" y="56437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NA molecules carry the code that controls what cells are made of and what they 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3643200" y="1643040"/>
            <a:ext cx="2880000" cy="1366920"/>
          </a:xfrm>
          <a:prstGeom prst="roundRect">
            <a:avLst>
              <a:gd name="adj" fmla="val 522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NA stands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oxyribo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cle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214200" y="4000680"/>
            <a:ext cx="3598920" cy="1366560"/>
          </a:xfrm>
          <a:prstGeom prst="roundRect">
            <a:avLst>
              <a:gd name="adj" fmla="val 615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chromosom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s a very long molecu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f tightly coiled D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What is DNA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5857920" y="3143160"/>
            <a:ext cx="3143160" cy="2286000"/>
          </a:xfrm>
          <a:prstGeom prst="roundRect">
            <a:avLst>
              <a:gd name="adj" fmla="val 5227"/>
            </a:avLst>
          </a:prstGeom>
          <a:noFill/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DNA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ooks lik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wisted ladde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piral shap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le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DOUBLE HEL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285840" y="12859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double helix ‘ladder’ of a DNA molecule is held together by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‘rungs’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de from pairs of chemicals called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bas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DNA Ba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285840" y="25002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four types of bas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and they are usually identified by their init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4"/>
          <p:cNvGrpSpPr/>
          <p:nvPr/>
        </p:nvGrpSpPr>
        <p:grpSpPr>
          <a:xfrm>
            <a:off x="3500280" y="3429000"/>
            <a:ext cx="2159280" cy="642600"/>
            <a:chOff x="3500280" y="3429000"/>
            <a:chExt cx="2159280" cy="642600"/>
          </a:xfrm>
        </p:grpSpPr>
        <p:pic>
          <p:nvPicPr>
            <p:cNvPr id="296" name="Picture 21" descr="a_base"/>
            <p:cNvPicPr/>
            <p:nvPr/>
          </p:nvPicPr>
          <p:blipFill>
            <a:blip r:embed="rId1"/>
            <a:stretch/>
          </p:blipFill>
          <p:spPr>
            <a:xfrm>
              <a:off x="3500280" y="3471840"/>
              <a:ext cx="2159280" cy="5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5"/>
            <p:cNvSpPr/>
            <p:nvPr/>
          </p:nvSpPr>
          <p:spPr>
            <a:xfrm>
              <a:off x="3638160" y="342900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3500280" y="5572080"/>
            <a:ext cx="997200" cy="642600"/>
            <a:chOff x="3500280" y="5572080"/>
            <a:chExt cx="997200" cy="642600"/>
          </a:xfrm>
        </p:grpSpPr>
        <p:pic>
          <p:nvPicPr>
            <p:cNvPr id="299" name="Picture 24" descr="t_base"/>
            <p:cNvPicPr/>
            <p:nvPr/>
          </p:nvPicPr>
          <p:blipFill>
            <a:blip r:embed="rId2"/>
            <a:stretch/>
          </p:blipFill>
          <p:spPr>
            <a:xfrm>
              <a:off x="3500280" y="5601960"/>
              <a:ext cx="997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6"/>
            <p:cNvSpPr/>
            <p:nvPr/>
          </p:nvSpPr>
          <p:spPr>
            <a:xfrm>
              <a:off x="3638160" y="557208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3500280" y="4133880"/>
            <a:ext cx="1659240" cy="642600"/>
            <a:chOff x="3500280" y="4133880"/>
            <a:chExt cx="1659240" cy="642600"/>
          </a:xfrm>
        </p:grpSpPr>
        <p:pic>
          <p:nvPicPr>
            <p:cNvPr id="302" name="Picture 22" descr="c_base"/>
            <p:cNvPicPr/>
            <p:nvPr/>
          </p:nvPicPr>
          <p:blipFill>
            <a:blip r:embed="rId3"/>
            <a:stretch/>
          </p:blipFill>
          <p:spPr>
            <a:xfrm>
              <a:off x="3500280" y="4171680"/>
              <a:ext cx="16592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7"/>
            <p:cNvSpPr/>
            <p:nvPr/>
          </p:nvSpPr>
          <p:spPr>
            <a:xfrm>
              <a:off x="3638160" y="413388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3500280" y="4848120"/>
            <a:ext cx="1573200" cy="642600"/>
            <a:chOff x="3500280" y="4848120"/>
            <a:chExt cx="1573200" cy="642600"/>
          </a:xfrm>
        </p:grpSpPr>
        <p:pic>
          <p:nvPicPr>
            <p:cNvPr id="305" name="Picture 23" descr="g_base"/>
            <p:cNvPicPr/>
            <p:nvPr/>
          </p:nvPicPr>
          <p:blipFill>
            <a:blip r:embed="rId4"/>
            <a:stretch/>
          </p:blipFill>
          <p:spPr>
            <a:xfrm>
              <a:off x="3500280" y="4885920"/>
              <a:ext cx="157320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8"/>
            <p:cNvSpPr/>
            <p:nvPr/>
          </p:nvSpPr>
          <p:spPr>
            <a:xfrm>
              <a:off x="3638160" y="484812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285840" y="1143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se pairs hold the two strands of the DNA helix toge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42920" y="571500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the sequence of these bases along a DNA molecule that forms the </a:t>
            </a:r>
            <a:r>
              <a:rPr b="1" lang="en-GB" sz="2400" spc="-1" strike="noStrike">
                <a:solidFill>
                  <a:srgbClr val="ef2389"/>
                </a:solidFill>
                <a:latin typeface="Comic Sans MS"/>
              </a:rPr>
              <a:t>genetic code</a:t>
            </a:r>
            <a:r>
              <a:rPr b="0" lang="en-GB" sz="2400" spc="-1" strike="noStrike">
                <a:solidFill>
                  <a:srgbClr val="ef238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– it’s that simpl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 u="sng">
                <a:solidFill>
                  <a:srgbClr val="ffffff"/>
                </a:solidFill>
                <a:uFillTx/>
                <a:latin typeface="Comic Sans MS"/>
              </a:rPr>
              <a:t>DNA Bas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571680" y="2143080"/>
            <a:ext cx="3024000" cy="2857320"/>
            <a:chOff x="571680" y="2143080"/>
            <a:chExt cx="3024000" cy="2857320"/>
          </a:xfrm>
        </p:grpSpPr>
        <p:sp>
          <p:nvSpPr>
            <p:cNvPr id="311" name="Rectangle 30"/>
            <p:cNvSpPr/>
            <p:nvPr/>
          </p:nvSpPr>
          <p:spPr>
            <a:xfrm>
              <a:off x="642960" y="2143080"/>
              <a:ext cx="142560" cy="27860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3429000" y="2143080"/>
              <a:ext cx="142560" cy="278604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27"/>
            <p:cNvGrpSpPr/>
            <p:nvPr/>
          </p:nvGrpSpPr>
          <p:grpSpPr>
            <a:xfrm>
              <a:off x="571680" y="2143080"/>
              <a:ext cx="3024000" cy="2857320"/>
              <a:chOff x="571680" y="2143080"/>
              <a:chExt cx="3024000" cy="2857320"/>
            </a:xfrm>
          </p:grpSpPr>
          <p:grpSp>
            <p:nvGrpSpPr>
              <p:cNvPr id="314" name="Group 15"/>
              <p:cNvGrpSpPr/>
              <p:nvPr/>
            </p:nvGrpSpPr>
            <p:grpSpPr>
              <a:xfrm>
                <a:off x="571680" y="2857320"/>
                <a:ext cx="3003480" cy="642600"/>
                <a:chOff x="571680" y="2857320"/>
                <a:chExt cx="3003480" cy="642600"/>
              </a:xfrm>
            </p:grpSpPr>
            <p:pic>
              <p:nvPicPr>
                <p:cNvPr id="315" name="Picture 23" descr="a_bas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680" y="2900160"/>
                  <a:ext cx="215892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6" descr="t_base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78320" y="2896920"/>
                  <a:ext cx="9968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Text Box 27"/>
                <p:cNvSpPr/>
                <p:nvPr/>
              </p:nvSpPr>
              <p:spPr>
                <a:xfrm>
                  <a:off x="709560" y="285732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8"/>
                <p:cNvSpPr/>
                <p:nvPr/>
              </p:nvSpPr>
              <p:spPr>
                <a:xfrm>
                  <a:off x="2968920" y="285732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T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6"/>
              <p:cNvGrpSpPr/>
              <p:nvPr/>
            </p:nvGrpSpPr>
            <p:grpSpPr>
              <a:xfrm>
                <a:off x="571680" y="2143080"/>
                <a:ext cx="3024000" cy="642600"/>
                <a:chOff x="571680" y="2143080"/>
                <a:chExt cx="3024000" cy="642600"/>
              </a:xfrm>
            </p:grpSpPr>
            <p:pic>
              <p:nvPicPr>
                <p:cNvPr id="320" name="Picture 24" descr="c_base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1680" y="2178000"/>
                  <a:ext cx="165888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5" descr="g_base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22480" y="2178000"/>
                  <a:ext cx="157320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2" name="Text Box 29"/>
                <p:cNvSpPr/>
                <p:nvPr/>
              </p:nvSpPr>
              <p:spPr>
                <a:xfrm>
                  <a:off x="714240" y="214308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30"/>
                <p:cNvSpPr/>
                <p:nvPr/>
              </p:nvSpPr>
              <p:spPr>
                <a:xfrm>
                  <a:off x="2986200" y="214308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G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17"/>
              <p:cNvGrpSpPr/>
              <p:nvPr/>
            </p:nvGrpSpPr>
            <p:grpSpPr>
              <a:xfrm>
                <a:off x="571680" y="3643200"/>
                <a:ext cx="3024000" cy="642600"/>
                <a:chOff x="571680" y="3643200"/>
                <a:chExt cx="3024000" cy="642600"/>
              </a:xfrm>
            </p:grpSpPr>
            <p:pic>
              <p:nvPicPr>
                <p:cNvPr id="325" name="Picture 24" descr="c_base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680" y="3678120"/>
                  <a:ext cx="165888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5" descr="g_base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22480" y="3678120"/>
                  <a:ext cx="157320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Text Box 29"/>
                <p:cNvSpPr/>
                <p:nvPr/>
              </p:nvSpPr>
              <p:spPr>
                <a:xfrm>
                  <a:off x="714240" y="36432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>
                  <a:off x="2986200" y="36432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G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22"/>
              <p:cNvGrpSpPr/>
              <p:nvPr/>
            </p:nvGrpSpPr>
            <p:grpSpPr>
              <a:xfrm>
                <a:off x="571680" y="4357800"/>
                <a:ext cx="3003480" cy="642600"/>
                <a:chOff x="571680" y="4357800"/>
                <a:chExt cx="3003480" cy="642600"/>
              </a:xfrm>
            </p:grpSpPr>
            <p:pic>
              <p:nvPicPr>
                <p:cNvPr id="330" name="Picture 23" descr="a_bas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1680" y="4400640"/>
                  <a:ext cx="215892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6" descr="t_bas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78320" y="4397400"/>
                  <a:ext cx="9968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Text Box 27"/>
                <p:cNvSpPr/>
                <p:nvPr/>
              </p:nvSpPr>
              <p:spPr>
                <a:xfrm>
                  <a:off x="709560" y="43578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Text Box 28"/>
                <p:cNvSpPr/>
                <p:nvPr/>
              </p:nvSpPr>
              <p:spPr>
                <a:xfrm>
                  <a:off x="2968920" y="4357800"/>
                  <a:ext cx="46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600" spc="-1" strike="noStrike">
                      <a:solidFill>
                        <a:srgbClr val="ffffff"/>
                      </a:solidFill>
                      <a:latin typeface="Comic Sans MS"/>
                    </a:rPr>
                    <a:t>T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4" name="Picture 20" descr="DNA"/>
          <p:cNvPicPr/>
          <p:nvPr/>
        </p:nvPicPr>
        <p:blipFill>
          <a:blip r:embed="rId9"/>
          <a:srcRect l="51311" t="36356" r="0" b="0"/>
          <a:stretch/>
        </p:blipFill>
        <p:spPr>
          <a:xfrm>
            <a:off x="5786280" y="2500200"/>
            <a:ext cx="2305080" cy="2376720"/>
          </a:xfrm>
          <a:prstGeom prst="rect">
            <a:avLst/>
          </a:prstGeom>
          <a:ln w="0">
            <a:noFill/>
          </a:ln>
        </p:spPr>
      </p:pic>
      <p:sp>
        <p:nvSpPr>
          <p:cNvPr id="335" name="Right Brace 34"/>
          <p:cNvSpPr/>
          <p:nvPr/>
        </p:nvSpPr>
        <p:spPr>
          <a:xfrm>
            <a:off x="4214880" y="2143080"/>
            <a:ext cx="1000080" cy="2857680"/>
          </a:xfrm>
          <a:custGeom>
            <a:avLst/>
            <a:gdLst>
              <a:gd name="textAreaLeft" fmla="*/ 0 w 1000080"/>
              <a:gd name="textAreaRight" fmla="*/ 361080 w 1000080"/>
              <a:gd name="textAreaTop" fmla="*/ 68760 h 2857680"/>
              <a:gd name="textAreaBottom" fmla="*/ 2788920 h 285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2"/>
                  <a:pt x="10800" y="1664"/>
                </a:cubicBezTo>
                <a:lnTo>
                  <a:pt x="10800" y="9136"/>
                </a:lnTo>
                <a:cubicBezTo>
                  <a:pt x="10800" y="9968"/>
                  <a:pt x="16200" y="10800"/>
                  <a:pt x="21600" y="10800"/>
                </a:cubicBezTo>
                <a:cubicBezTo>
                  <a:pt x="16200" y="10800"/>
                  <a:pt x="10800" y="11632"/>
                  <a:pt x="10800" y="12464"/>
                </a:cubicBezTo>
                <a:lnTo>
                  <a:pt x="10800" y="19936"/>
                </a:lnTo>
                <a:cubicBezTo>
                  <a:pt x="10800" y="207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ef23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6:58:32Z</dcterms:created>
  <dc:creator>J &amp; C</dc:creator>
  <dc:description/>
  <dc:language>en-US</dc:language>
  <cp:lastModifiedBy>Pepe</cp:lastModifiedBy>
  <dcterms:modified xsi:type="dcterms:W3CDTF">2011-02-17T11:46:26Z</dcterms:modified>
  <cp:revision>18</cp:revision>
  <dc:subject/>
  <dc:title>Learning Objective</dc:title>
</cp:coreProperties>
</file>